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B6FC-D6A3-4687-BDA3-0D3087C54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6D8A-6F9A-4CD9-80EF-6846A09A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209D-E384-412B-8DC0-0A4DC1908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ata  26.5  67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te   14.1  60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dazi 18.4  22.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9D5C-1D3A-455B-984F-F2E905215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5B9A-249A-4506-BEEB-2CFC66582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57E-6C63-4DFA-8A4C-B48DB989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B3A-02D6-441B-9E35-48916EFB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FB9-CB5D-4796-AEEB-33F80F7D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AA8-BFE7-4D7F-A217-69B69776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205-86CA-4E0F-90D8-256D6F61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E3D-A8C8-4812-90DE-3901B1AA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5EC-BA47-4A7B-A1E6-6DF81E7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C9E-48AB-4B53-957A-3D1BB753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A25-9248-495E-B77F-24C88755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2D5-09AF-464C-A0F3-5427D47D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322-F51B-4872-B533-9650282C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E64-5733-42E9-95CA-ED9B54F9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B214-117D-4D50-ABBE-FAC32235C3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4440" y="762120"/>
            <a:ext cx="4846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Lucid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819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SIMLEZA SITE CHARACTERISATION AND MONITORING &amp; EVALUA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609480" y="5562720"/>
            <a:ext cx="3762360" cy="103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049440" y="571500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ZA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and Evalu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905120"/>
          <a:ext cx="8610480" cy="4495680"/>
        </p:xfrm>
        <a:graphic>
          <a:graphicData uri="http://schemas.openxmlformats.org/drawingml/2006/table">
            <a:tbl>
              <a:tblPr/>
              <a:tblGrid>
                <a:gridCol w="3789360"/>
                <a:gridCol w="2409840"/>
                <a:gridCol w="2411280"/>
              </a:tblGrid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 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Prevalence of stunted children under five years of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 FTF Indicator Name: Prevalence of underweight children under 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 : Prevalence of underweight wom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153280" cy="4554720"/>
        </p:xfrm>
        <a:graphic>
          <a:graphicData uri="http://schemas.openxmlformats.org/drawingml/2006/table">
            <a:tbl>
              <a:tblPr/>
              <a:tblGrid>
                <a:gridCol w="3581280"/>
                <a:gridCol w="1981440"/>
                <a:gridCol w="2590560"/>
              </a:tblGrid>
              <a:tr h="47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alence of wasted children under five years of ag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 capita expenditures of USG targeted beneficiari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mmyt &amp;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2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l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" y="1066680"/>
          <a:ext cx="8763120" cy="5607000"/>
        </p:xfrm>
        <a:graphic>
          <a:graphicData uri="http://schemas.openxmlformats.org/drawingml/2006/table">
            <a:tbl>
              <a:tblPr/>
              <a:tblGrid>
                <a:gridCol w="4724280"/>
                <a:gridCol w="2133720"/>
                <a:gridCol w="1905120"/>
              </a:tblGrid>
              <a:tr h="29232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84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total production per hectare) for targeted commod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1. 2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new technologies or management practices in one of the following phases of development as a result of USG assistan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1: 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2: 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3: 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2,3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farmers or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1,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individuals who have received USG supported short-term agricultural sector productivity or food security training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A025-BC70-4F6A-8EA8-982B2A273AC3}" type="slidenum">
              <a:rPr b="0" lang="en-US" sz="18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read basket of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main crops contributes a significant share to national production – maize (22%); G/nut (30%): cotton (69%);  sunflower (7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ct spatial differences based on bio physical conditions (agro-ecological; topography ) and economic develop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Basic Household Characterist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2057400"/>
          <a:ext cx="8208720" cy="3559320"/>
        </p:xfrm>
        <a:graphic>
          <a:graphicData uri="http://schemas.openxmlformats.org/drawingml/2006/table">
            <a:tbl>
              <a:tblPr/>
              <a:tblGrid>
                <a:gridCol w="3255840"/>
                <a:gridCol w="1219320"/>
                <a:gridCol w="1152360"/>
                <a:gridCol w="1219320"/>
                <a:gridCol w="1361880"/>
              </a:tblGrid>
              <a:tr h="892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e (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usehol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ducation (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Farm size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 (2.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8 (2.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 (4.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8 (3.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vestock Ownership (TL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rming as occupation 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 Density in  SIMLEZA survey districts in eastern Zambi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G:\CIMMYT\SIMLEZA\Maps revised\Poplation_eastern province ZAM.jpg"/>
          <p:cNvPicPr/>
          <p:nvPr/>
        </p:nvPicPr>
        <p:blipFill>
          <a:blip r:embed="rId2"/>
          <a:stretch/>
        </p:blipFill>
        <p:spPr>
          <a:xfrm>
            <a:off x="1849320" y="1143000"/>
            <a:ext cx="57708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oil Types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Munyaradzi\Documents\Planning meeting Malawi 2012\Cimmyt\Simleza\ZAMBIA MAP\Zambia_soils.jpg"/>
          <p:cNvPicPr/>
          <p:nvPr/>
        </p:nvPicPr>
        <p:blipFill>
          <a:blip r:embed="rId1"/>
          <a:stretch/>
        </p:blipFill>
        <p:spPr>
          <a:xfrm>
            <a:off x="3733920" y="1828800"/>
            <a:ext cx="480060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95200" y="1676520"/>
            <a:ext cx="343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hysically Ferralsols are good soils, well drained and with a good structure and deep profile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ow capacity to retain and supply nutrients to pla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rralsols have low pHs (&lt; 5.2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ficient in bases (Ca, Mg, K) which requires lime appl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mean annual rainfall distribution of Zambia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LE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440" y="165744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9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G:\CIMMYT\SIMLEZA\Maps revised\Zamb_rainfall-2.jpg"/>
          <p:cNvPicPr/>
          <p:nvPr/>
        </p:nvPicPr>
        <p:blipFill>
          <a:blip r:embed="rId2"/>
          <a:stretch/>
        </p:blipFill>
        <p:spPr>
          <a:xfrm>
            <a:off x="533520" y="1523880"/>
            <a:ext cx="61894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  <a:ea typeface="Calibri"/>
              </a:rPr>
              <a:t>Maize &amp; Legume Production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752480"/>
          <a:ext cx="8208720" cy="5440320"/>
        </p:xfrm>
        <a:graphic>
          <a:graphicData uri="http://schemas.openxmlformats.org/drawingml/2006/table">
            <a:tbl>
              <a:tblPr/>
              <a:tblGrid>
                <a:gridCol w="3200400"/>
                <a:gridCol w="1274760"/>
                <a:gridCol w="1152360"/>
                <a:gridCol w="1219320"/>
                <a:gridCol w="1361880"/>
              </a:tblGrid>
              <a:tr h="9028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 (kgs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ze                hyb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79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021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8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8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87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4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8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6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9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mon Beans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8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   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9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s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8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7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3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7772400" cy="4540320"/>
        </p:xfrm>
        <a:graphic>
          <a:graphicData uri="http://schemas.openxmlformats.org/drawingml/2006/table">
            <a:tbl>
              <a:tblPr/>
              <a:tblGrid>
                <a:gridCol w="1447920"/>
                <a:gridCol w="1928520"/>
                <a:gridCol w="1036800"/>
                <a:gridCol w="1122480"/>
                <a:gridCol w="1055520"/>
                <a:gridCol w="1181160"/>
              </a:tblGrid>
              <a:tr h="5493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3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Calibri"/>
                          <a:ea typeface="Calibri"/>
                        </a:rPr>
                        <a:t>4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2209680"/>
          <a:ext cx="7772400" cy="3154320"/>
        </p:xfrm>
        <a:graphic>
          <a:graphicData uri="http://schemas.openxmlformats.org/drawingml/2006/table">
            <a:tbl>
              <a:tblPr/>
              <a:tblGrid>
                <a:gridCol w="1371600"/>
                <a:gridCol w="2004840"/>
                <a:gridCol w="1036800"/>
                <a:gridCol w="1122480"/>
                <a:gridCol w="1055520"/>
                <a:gridCol w="1181160"/>
              </a:tblGrid>
              <a:tr h="7779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7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4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8:23:30Z</dcterms:created>
  <dc:creator>Mwangi</dc:creator>
  <dc:description/>
  <dc:language>en-US</dc:language>
  <cp:lastModifiedBy>Bekunda</cp:lastModifiedBy>
  <dcterms:modified xsi:type="dcterms:W3CDTF">2013-05-28T12:25:38Z</dcterms:modified>
  <cp:revision>216</cp:revision>
  <dc:subject/>
  <dc:title>The Drought Tolerant Maize for Africa Project</dc:title>
</cp:coreProperties>
</file>